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0C3DA-5E65-489B-A3D5-7076D444836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46E7E-7ECF-4ECF-89E0-A259AAD42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523C5-3BC2-40FD-A1A1-03FF223A1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70959-E19C-4A10-BE94-0098E1EB40D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6FBEB-248A-4675-88BA-9F606C705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E2E53-6CDF-4844-8DA7-DB7D4A32C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3EB43-A717-4C83-BF39-85CA78A97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E531C-4331-467E-B58E-93A9ECDA1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7BD10-5A46-491A-9EEE-088959D0A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5715C-1CD8-40D4-B6A3-104FDCC2B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CE4A3-4648-4463-83A7-2F16A1B76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4239E-8EDD-44E2-B83D-FF1EB4EEA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72C27-AEA2-4D05-A8E9-B318FA736A4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十五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妊娠滋养细胞疾病   患者的护理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56760" y="157176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心理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葡萄胎确诊后应及时清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刮出物送组织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其他   如黄素化囊肿急性扭转可手术切除。高危者给予预防性化疗。年龄较大且无生育要求者可行子宫切除术，保留双侧卵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42560" y="1500120"/>
            <a:ext cx="90010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护理诊断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合作性问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营养失调：低于机体需要量   与化疗所致的恶心、呕吐和食欲下降等消化道反应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有感染的危险   与化疗引起骨髓抑制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潜在并发症：出血   与化疗引起骨髓抑制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有口腔黏膜改变的危险   与化疗所致溃疡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自我形象紊乱   与化疗所致的脱发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85480" y="1371600"/>
            <a:ext cx="862956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措施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一般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严密观察病情变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预防感染 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症状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做好清宫术前后的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预防性化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健康教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预防感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生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 随访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随访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随访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-142920" y="250020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d0d0d"/>
                </a:solidFill>
                <a:latin typeface="Verdana"/>
                <a:ea typeface="宋体"/>
              </a:rPr>
              <a:t>                  </a:t>
            </a:r>
            <a:r>
              <a:rPr b="1" lang="zh-CN" sz="3000" spc="-1" strike="noStrike">
                <a:solidFill>
                  <a:srgbClr val="0d0d0d"/>
                </a:solidFill>
                <a:latin typeface="Verdana"/>
                <a:ea typeface="宋体"/>
              </a:rPr>
              <a:t>第二节     妊娠滋养细胞肿瘤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20E13-0F97-40B5-AA99-51D0FA9E10F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71320" y="1000080"/>
            <a:ext cx="81961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妊娠滋养细胞肿瘤是滋养细胞恶性病变，包括侵蚀性葡萄胎、绒癌和胎盘部位滋养细胞肿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侵蚀性葡萄胎是指葡 萄胎组织侵入子宫肌层引起组织破坏或转移至子宫以 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绒毛膜癌是一种高度恶 性的肿瘤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0%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发生于葡萄胎之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5" name="Picture 6" descr="1"/>
          <p:cNvPicPr/>
          <p:nvPr/>
        </p:nvPicPr>
        <p:blipFill>
          <a:blip r:embed="rId1"/>
          <a:stretch/>
        </p:blipFill>
        <p:spPr>
          <a:xfrm>
            <a:off x="6643800" y="4929120"/>
            <a:ext cx="1357200" cy="15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D297F-F355-457B-9075-1C0EDD20C84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原发灶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不规则阴道流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子宫复旧不全或不均匀增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卵巢黄素化囊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其他  如腹痛、假孕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22057-4C41-4DBA-8B9E-E37B3DE1AD8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转移灶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肺转移    咳嗽或反复咯血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阴道转移    紫蓝色结节，破溃后可大出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肝转移    可有上腹部或肝区疼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脑转移    为死亡的主要原因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65112-D4CC-43B2-92CE-7BB8973B737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血和尿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β-HCG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测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胸部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X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超声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T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MRI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组织学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96241-D04D-4EDD-8AE7-2FC59011ADC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与疾病相关的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年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月经及妊娠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既往史及家族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其他  如服用药物情况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葡萄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妊娠滋养细胞肿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化疗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763640" y="3141720"/>
            <a:ext cx="687600" cy="593640"/>
          </a:xfrm>
          <a:prstGeom prst="hexagon">
            <a:avLst>
              <a:gd name="adj" fmla="val 28957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35280" y="4005360"/>
            <a:ext cx="686880" cy="593640"/>
            <a:chOff x="1835280" y="4005360"/>
            <a:chExt cx="68688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40680" y="401544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35280" y="400536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75240" y="404028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9640" y="407664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7162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5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371C4-90CE-4397-BA68-B6C486B72FF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心理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原则是以化疗为主，手术、放疗为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根据临床分期、预后评分来制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8EC1E-2D97-48ED-A3C1-82E65CAAC51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护理诊断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合作性问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有感染的危险   与反复阴道出血、化疗导致抵抗力降低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预感性悲哀   与病程长、预后不良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活动无耐力  与腹痛、转移灶症状及化疗副作用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营养失调   与化疗引起胃肠道不适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7AC0B-E77B-40F6-B839-2F444E83EF5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措施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一般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 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 观察病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症状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肺转移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卧床休息，吸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配合治疗，大量咯血者防窒息和休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观察病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56760" y="19807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阴道转移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卧床休息，做好抢救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禁做阴道检查和窥阴器检查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破溃大出血时，配合抢救（抗休克和感染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B4E97-A04F-4720-B814-2A62D977EE9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脑转移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病情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遵医嘱治疗   如补液、止血、吸氧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预防并发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偏瘫、昏迷者按常规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及时做好检查配合    如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T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腰穿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0BD1F-3192-4834-8391-A7B28777749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健康教育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生活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随访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-142920" y="250020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d0d0d"/>
                </a:solidFill>
                <a:latin typeface="Verdana"/>
                <a:ea typeface="宋体"/>
              </a:rPr>
              <a:t>                  </a:t>
            </a:r>
            <a:r>
              <a:rPr b="1" lang="zh-CN" sz="3000" spc="-1" strike="noStrike">
                <a:solidFill>
                  <a:srgbClr val="0d0d0d"/>
                </a:solidFill>
                <a:latin typeface="Verdana"/>
                <a:ea typeface="宋体"/>
              </a:rPr>
              <a:t>第三节     化疗患者的护理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D95C1-5830-4CCC-8C2F-886B3FA9932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化学药物治疗的方法称为化学疗法，简称化疗。化疗和手术治疗、放射治疗是目前治疗恶性肿瘤的三大手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妊娠滋养细胞疾病是所有肿瘤中对化疗最敏感的一种，总治愈率超过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90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7FD4C-2C23-4C01-B682-C7984F7A9AB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化疗药物作用机制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影响去氧核糖核酸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的合成代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直接与核糖核酸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作用干扰其复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抑制信使核糖核酸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的合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阻止纺锤丝的形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阻止蛋白质的合成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5EA62-3333-4498-999A-966707AE761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黑体"/>
              </a:rPr>
              <a:t>概  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85840" y="1071360"/>
            <a:ext cx="83390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妊娠滋养细胞疾病是一组来源于胎盘绒毛滋养细胞的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滋养细胞增生的程度、侵蚀能力、有无绒毛结构及生物学特性，可分为葡萄胎、侵蚀性葡萄胎、绒毛膜癌和胎盘部位妊娠滋养细胞肿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4997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化疗药物种类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烷化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抗代谢药物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抗肿瘤抗生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抗肿瘤植物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化疗药物的应用原则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根据肿瘤的病理诊断和分期化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根据肿瘤细胞的分裂周期化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根据患者的身体情况选择化疗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使用增敏药物和预防副作用的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化疗方案的选择需考虑患者的经济情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给药方法及化疗方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给药方法    静脉滴注、肌内注射、口服给药、腹腔内给药及动脉插管局部灌注、靶向治疗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化疗方案    低危患者可选单一药物化疗；高危者选择联合化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DC11F-DEE0-4F9D-936A-5B92D484BA0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71680" y="1356840"/>
            <a:ext cx="80532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化疗常见的不良反应及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近期毒性反应   分为局部反应和全身性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远期毒性反应   如生殖功能障碍及致癌致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并发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28E26-3D1A-4E8E-82BB-545F9F4A1F7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57120" y="1857240"/>
            <a:ext cx="83390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化疗前血常规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肝、肾功能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其他检查    如尿常规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B888F-3436-4B04-B7D4-98C82B3753F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99680" y="1857240"/>
            <a:ext cx="819612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与疾病相关的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体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饮食与生活习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既往病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家族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其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心理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DF949-1E07-4539-8DFC-19F09CE6006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-360" y="1857240"/>
            <a:ext cx="90010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护理问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合作性问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营养失调：低于机体需要量  与化疗所致的恶心、呕吐和食欲下降等消化道反应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有感染的危险   与化疗引起骨髓抑制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自我形象紊乱   与化疗所致的脱发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潜在并发症：出血   与化疗引起骨髓抑制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7F4E7-C7D1-4485-A1DB-7D84B7F5A70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286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措施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一般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多休息，注意饮食；保持会阴清洁，防止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严密观察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 接受化疗患者的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准确测量体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正确使用药物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合理使用静脉血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3607B-E91B-4D84-96B7-4B9B25998AF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常见毒副反应的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骨髓抑制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胃肠道不良反应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口腔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-142920" y="250020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d0d0d"/>
                </a:solidFill>
                <a:latin typeface="Verdana"/>
                <a:ea typeface="宋体"/>
              </a:rPr>
              <a:t>                     </a:t>
            </a:r>
            <a:r>
              <a:rPr b="1" lang="zh-CN" sz="3600" spc="-1" strike="noStrike">
                <a:solidFill>
                  <a:srgbClr val="0d0d0d"/>
                </a:solidFill>
                <a:latin typeface="Verdana"/>
                <a:ea typeface="宋体"/>
              </a:rPr>
              <a:t>第一节     葡萄胎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1AA56-E658-446F-8FC0-FCB013ECAEF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-360" y="1500120"/>
            <a:ext cx="8929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三）健康教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指导患者给药剂量等，注意药物的储存及不良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鼓励少量多餐，注意饮食和休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日常生活方面注意清洁，尽量避免去公共场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如白细胞计数低于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0×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则需进行保护性隔离，并告知其重要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85278-7191-4627-8D46-7661CF22B8C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85480" y="857160"/>
            <a:ext cx="864396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义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葡萄胎是妊娠滋养细胞的良性病变，主要为胎盘绒毛滋养细胞增生、间质水肿，形成大小不一的水泡，相互间借蒂连成串，形如葡萄而得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葡萄胎可分为完全性葡萄胎和部分性葡萄胎。其发生的原因尚未完全清楚，可能与异常受精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2" name="Picture 1" descr=""/>
          <p:cNvPicPr/>
          <p:nvPr/>
        </p:nvPicPr>
        <p:blipFill>
          <a:blip r:embed="rId1"/>
          <a:stretch/>
        </p:blipFill>
        <p:spPr>
          <a:xfrm>
            <a:off x="1857240" y="4857840"/>
            <a:ext cx="1857600" cy="1627200"/>
          </a:xfrm>
          <a:prstGeom prst="rect">
            <a:avLst/>
          </a:prstGeom>
          <a:ln w="0">
            <a:noFill/>
          </a:ln>
        </p:spPr>
      </p:pic>
      <p:grpSp>
        <p:nvGrpSpPr>
          <p:cNvPr id="133" name="Group 3"/>
          <p:cNvGrpSpPr/>
          <p:nvPr/>
        </p:nvGrpSpPr>
        <p:grpSpPr>
          <a:xfrm>
            <a:off x="5572080" y="4786200"/>
            <a:ext cx="2000160" cy="1698840"/>
            <a:chOff x="5572080" y="4786200"/>
            <a:chExt cx="2000160" cy="1698840"/>
          </a:xfrm>
        </p:grpSpPr>
        <p:sp>
          <p:nvSpPr>
            <p:cNvPr id="134" name="Text Box 4"/>
            <p:cNvSpPr/>
            <p:nvPr/>
          </p:nvSpPr>
          <p:spPr>
            <a:xfrm>
              <a:off x="5771880" y="6276240"/>
              <a:ext cx="1650240" cy="20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46ca6"/>
                  </a:solidFill>
                  <a:latin typeface="Calibri"/>
                  <a:ea typeface="宋体"/>
                </a:rPr>
                <a:t>图</a:t>
              </a:r>
              <a:r>
                <a:rPr b="0" lang="en-US" sz="1200" spc="-1" strike="noStrike">
                  <a:solidFill>
                    <a:srgbClr val="046ca6"/>
                  </a:solidFill>
                  <a:latin typeface="Calibri"/>
                  <a:ea typeface="宋体"/>
                </a:rPr>
                <a:t>15-2  </a:t>
              </a:r>
              <a:r>
                <a:rPr b="0" lang="zh-CN" sz="12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完全性葡萄胎</a:t>
              </a:r>
              <a:endParaRPr b="0" lang="en-US" sz="1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135" name="Picture 5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5572080" y="4786200"/>
              <a:ext cx="2000160" cy="1450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94181-9598-4DAA-B3EB-2084AD31EA8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99680" y="1428480"/>
            <a:ext cx="81248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完全性葡萄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停经后阴道流血     为最常见的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子宫异常增大、变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妊娠呕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妊娠高血压子痫前期征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其他：卵巢黄素化囊肿、腹痛、甲亢征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85840" y="15717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部分性葡萄胎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阴道流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其他症状    不如完全性葡萄胎典型，易误诊，仅在刮宫后经组织病理检查方能确诊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7AEE4-AFE9-497B-8557-0C1D604CA58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99680" y="1642680"/>
            <a:ext cx="8196120" cy="46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绒毛膜促性腺激素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CG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测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超声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流式细胞仪测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多普勒胎心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其他    如血常规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56760" y="142884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与疾病相关的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年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月经及妊娠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饮食习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家族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其他   如有无采取口服避孕方式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1T09:11:27Z</dcterms:modified>
  <cp:revision>10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